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5th%20Grader%20Short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B9CDF-FBB2-4502-A108-018103E46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0B605-BC30-472C-96AB-EFA39A70627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83E26-470D-44CA-9374-931F82A895B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E6FE3-C904-4330-B73C-6F562F8DE9A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17B94-7EDA-4048-8D8F-46A5ED0BD6D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F02C2-4F04-427E-ACFC-56BB7C99BC7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F0246-70D4-4596-B5D7-B1A189B7B66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B8B17-2643-4067-A94A-0B04EBE2A40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D24DF-BA9E-4DE1-B7C4-D177A56CA3C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3ACFB-9EE4-44BE-A482-8EAEE18C7F2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92F0A-B363-4277-900E-68CD3F0E748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C7F91-EE20-4D2A-8620-A31F69E1CF4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BC66D-8088-4497-A13D-9C2077EBBF7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9CE62-2BC4-44B1-8DD8-F6D6FB27188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E33A5-8A92-47FA-AD3B-55190EAB164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15A86-62CF-49B6-9709-F6F7F4BADEC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1E66E-D097-4A66-BC06-6A2A9AD9E4B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342D2-83A5-4E48-A0FF-593C561A601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03F05-3CA1-490E-A0F9-7DEBCC19F96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F4A27-B5EC-4D47-A68C-D40B127201D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24436-BB93-41DF-A1D2-E8A76ACE3DF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BBA51-DBC9-4426-9BCE-FAAD346407F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D5ACA-51F7-42DF-A727-4BE13C3838F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CCE3C-5FF4-4625-A70D-66979B65A60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EBBF3-0E37-44C7-8B64-56C741B9D75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3A57B-9A1F-426F-BC86-06B2CD2A066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B47B3-DE0A-435B-9CFE-E7B57A0133D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6E81-0821-4E85-9DE2-61652F0D7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BB6A-A08C-4C34-94EA-0DE07D337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2FCD-3EBD-4722-A858-978E22D5D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3C2D-E3A8-4053-A0E6-373711DB6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1C92-519C-4D2D-9135-D58E7F415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A448-58A7-4A14-BAB6-EAF0C1760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078E-545B-4ABD-ABED-1872CE298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55C6-607E-4F42-A63D-52B1BDDAC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2623-8972-4F79-92E1-83A4B4F05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ED70-C440-4A0C-B434-970EF38CF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5E2C-FF10-4E74-A72A-D388281C2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4792-DB9E-40C7-8259-684BC54D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66000"/>
          </a:bodyPr>
          <a:p>
            <a:pPr marL="226080" indent="-226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490320" indent="-1886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754200" indent="-15084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055880" indent="-15084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357560" indent="-15084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357560" indent="-15084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357560" indent="-15084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ECE3E-5744-462C-97B7-2D94066CC1E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5th%20Grader%20Short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7.xml"/><Relationship Id="rId5" Type="http://schemas.openxmlformats.org/officeDocument/2006/relationships/slide" Target="slide9.xml"/><Relationship Id="rId6" Type="http://schemas.openxmlformats.org/officeDocument/2006/relationships/slide" Target="slide11.xml"/><Relationship Id="rId7" Type="http://schemas.openxmlformats.org/officeDocument/2006/relationships/slide" Target="slide13.xml"/><Relationship Id="rId8" Type="http://schemas.openxmlformats.org/officeDocument/2006/relationships/slide" Target="slide15.xml"/><Relationship Id="rId9" Type="http://schemas.openxmlformats.org/officeDocument/2006/relationships/slide" Target="slide17.xml"/><Relationship Id="rId10" Type="http://schemas.openxmlformats.org/officeDocument/2006/relationships/slide" Target="slide19.xml"/><Relationship Id="rId11" Type="http://schemas.openxmlformats.org/officeDocument/2006/relationships/slide" Target="slide21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slide" Target="slide2.xml"/><Relationship Id="rId21" Type="http://schemas.openxmlformats.org/officeDocument/2006/relationships/slide" Target="slide2.xml"/><Relationship Id="rId22" Type="http://schemas.openxmlformats.org/officeDocument/2006/relationships/slide" Target="slide2.xml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5th%20Grader%20Short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Are You Smarter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an a 5</a:t>
            </a:r>
            <a:r>
              <a:rPr b="0" lang="en-US" sz="44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Grader?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2971800" y="3733920"/>
            <a:ext cx="3048120" cy="1904760"/>
          </a:xfrm>
          <a:prstGeom prst="rect">
            <a:avLst/>
          </a:prstGeom>
          <a:solidFill>
            <a:srgbClr val="ffffff"/>
          </a:solidFill>
          <a:ln w="1522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4" descr="5thGrader"/>
          <p:cNvPicPr/>
          <p:nvPr/>
        </p:nvPicPr>
        <p:blipFill>
          <a:blip r:embed="rId1"/>
          <a:stretch/>
        </p:blipFill>
        <p:spPr>
          <a:xfrm>
            <a:off x="3581280" y="3886200"/>
            <a:ext cx="1905120" cy="147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Topic 4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olly saw “that the day was going to be a scorcher” and decided to get water for any soldier who needed it during the hot day of fighting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44280 w 1218960"/>
              <a:gd name="textAreaRight" fmla="*/ 1174680 w 12189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6984" y="1400"/>
                </a:lnTo>
                <a:lnTo>
                  <a:pt x="1400" y="14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6984" y="20200"/>
                </a:lnTo>
                <a:lnTo>
                  <a:pt x="36984" y="14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84" y="202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Topic 5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conclusion can you draw about Molly Pitcher based off her actions during the battle in the selection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Topic 5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he was a brave woman who did what she felt was necessary to help the men fight against the British.  She believed strongly in the fight for independence from Britain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" name="AutoShape 6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44280 w 1218960"/>
              <a:gd name="textAreaRight" fmla="*/ 1174680 w 12189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6984" y="1400"/>
                </a:lnTo>
                <a:lnTo>
                  <a:pt x="1400" y="14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6984" y="20200"/>
                </a:lnTo>
                <a:lnTo>
                  <a:pt x="36984" y="14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84" y="202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Topic 6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y did the author write this selection about Molly Pitcher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Topic 6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author wanted to show you how one person can affect important events in history and the ways women helped in the Revolutionary war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Topic 7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ow were Molly Pitcher’s acts of bravery similar to Paul Revere’s acts of bravery when he warned the Patriots that the British were coming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Topic 7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y both believed in the fight for independence and acted bravely to fight for what they believed in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AutoShape 6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44280 w 1218960"/>
              <a:gd name="textAreaRight" fmla="*/ 1174680 w 12189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6984" y="1400"/>
                </a:lnTo>
                <a:lnTo>
                  <a:pt x="1400" y="14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6984" y="20200"/>
                </a:lnTo>
                <a:lnTo>
                  <a:pt x="36984" y="14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84" y="202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Topic 8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does retreat mean on page 335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Topic 8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o withdraw from battl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AutoShape 6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44280 w 1218960"/>
              <a:gd name="textAreaRight" fmla="*/ 1174680 w 12189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6984" y="1400"/>
                </a:lnTo>
                <a:lnTo>
                  <a:pt x="1400" y="14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6984" y="20200"/>
                </a:lnTo>
                <a:lnTo>
                  <a:pt x="36984" y="14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84" y="202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Topic 9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does revolution mean on page 330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0500"/>
            </a:gs>
            <a:gs pos="50000">
              <a:srgbClr val="408000"/>
            </a:gs>
            <a:gs pos="100000">
              <a:srgbClr val="030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re You Smarter Than a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Grader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76320" y="228600"/>
            <a:ext cx="1600200" cy="457200"/>
          </a:xfrm>
          <a:prstGeom prst="rect">
            <a:avLst/>
          </a:prstGeom>
          <a:solidFill>
            <a:srgbClr val="00008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" action="ppaction://hlinksldjump"/>
              </a:rPr>
              <a:t>1,0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6"/>
          <p:cNvSpPr/>
          <p:nvPr/>
        </p:nvSpPr>
        <p:spPr>
          <a:xfrm>
            <a:off x="1676520" y="1676520"/>
            <a:ext cx="358128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" action="ppaction://hlinksldjump"/>
              </a:rPr>
              <a:t>5th Grade Topic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7"/>
          <p:cNvSpPr/>
          <p:nvPr/>
        </p:nvSpPr>
        <p:spPr>
          <a:xfrm>
            <a:off x="5410080" y="1676520"/>
            <a:ext cx="358164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" action="ppaction://hlinksldjump"/>
              </a:rPr>
              <a:t>5th Grade Topic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8"/>
          <p:cNvSpPr/>
          <p:nvPr/>
        </p:nvSpPr>
        <p:spPr>
          <a:xfrm>
            <a:off x="1676520" y="2647800"/>
            <a:ext cx="358128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8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4" action="ppaction://hlinksldjump"/>
              </a:rPr>
              <a:t>4th Grade Topic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AutoShape 9"/>
          <p:cNvSpPr/>
          <p:nvPr/>
        </p:nvSpPr>
        <p:spPr>
          <a:xfrm>
            <a:off x="5410080" y="2647800"/>
            <a:ext cx="358164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5" action="ppaction://hlinksldjump"/>
              </a:rPr>
              <a:t>4th Grade Topic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AutoShape 10"/>
          <p:cNvSpPr/>
          <p:nvPr/>
        </p:nvSpPr>
        <p:spPr>
          <a:xfrm>
            <a:off x="1676520" y="3619440"/>
            <a:ext cx="358128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0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6" action="ppaction://hlinksldjump"/>
              </a:rPr>
              <a:t>3rd Grade Topic 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AutoShape 11"/>
          <p:cNvSpPr/>
          <p:nvPr/>
        </p:nvSpPr>
        <p:spPr>
          <a:xfrm>
            <a:off x="5410080" y="3619440"/>
            <a:ext cx="358164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7" action="ppaction://hlinksldjump"/>
              </a:rPr>
              <a:t>3rd Grade Topic 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AutoShape 12"/>
          <p:cNvSpPr/>
          <p:nvPr/>
        </p:nvSpPr>
        <p:spPr>
          <a:xfrm>
            <a:off x="1676520" y="4591080"/>
            <a:ext cx="358128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8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8" action="ppaction://hlinksldjump"/>
              </a:rPr>
              <a:t>2nd Grade Topic 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13"/>
          <p:cNvSpPr/>
          <p:nvPr/>
        </p:nvSpPr>
        <p:spPr>
          <a:xfrm>
            <a:off x="5410080" y="4591080"/>
            <a:ext cx="358164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9" action="ppaction://hlinksldjump"/>
              </a:rPr>
              <a:t>2nd Grade Topic 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AutoShape 14"/>
          <p:cNvSpPr/>
          <p:nvPr/>
        </p:nvSpPr>
        <p:spPr>
          <a:xfrm>
            <a:off x="1676520" y="5562720"/>
            <a:ext cx="358128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8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0" action="ppaction://hlinksldjump"/>
              </a:rPr>
              <a:t>1st Grade Topic 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AutoShape 15"/>
          <p:cNvSpPr/>
          <p:nvPr/>
        </p:nvSpPr>
        <p:spPr>
          <a:xfrm>
            <a:off x="5410080" y="5562720"/>
            <a:ext cx="358164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1" action="ppaction://hlinksldjump"/>
              </a:rPr>
              <a:t>1st Grade Topic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0"/>
          <p:cNvSpPr/>
          <p:nvPr/>
        </p:nvSpPr>
        <p:spPr>
          <a:xfrm>
            <a:off x="165240" y="800280"/>
            <a:ext cx="1371600" cy="47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2" action="ppaction://hlinksldjump"/>
              </a:rPr>
              <a:t>5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Rectangle 21"/>
          <p:cNvSpPr/>
          <p:nvPr/>
        </p:nvSpPr>
        <p:spPr>
          <a:xfrm>
            <a:off x="152280" y="138744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3" action="ppaction://hlinksldjump"/>
              </a:rPr>
              <a:t>3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ctangle 22"/>
          <p:cNvSpPr/>
          <p:nvPr/>
        </p:nvSpPr>
        <p:spPr>
          <a:xfrm>
            <a:off x="152280" y="197316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4" action="ppaction://hlinksldjump"/>
              </a:rPr>
              <a:t>17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3"/>
          <p:cNvSpPr/>
          <p:nvPr/>
        </p:nvSpPr>
        <p:spPr>
          <a:xfrm>
            <a:off x="152280" y="256068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5" action="ppaction://hlinksldjump"/>
              </a:rPr>
              <a:t>1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24"/>
          <p:cNvSpPr/>
          <p:nvPr/>
        </p:nvSpPr>
        <p:spPr>
          <a:xfrm>
            <a:off x="152280" y="314784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6" action="ppaction://hlinksldjump"/>
              </a:rPr>
              <a:t>5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25"/>
          <p:cNvSpPr/>
          <p:nvPr/>
        </p:nvSpPr>
        <p:spPr>
          <a:xfrm>
            <a:off x="152280" y="3733920"/>
            <a:ext cx="1371600" cy="47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7" action="ppaction://hlinksldjump"/>
              </a:rPr>
              <a:t>2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6"/>
          <p:cNvSpPr/>
          <p:nvPr/>
        </p:nvSpPr>
        <p:spPr>
          <a:xfrm>
            <a:off x="152280" y="432108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8" action="ppaction://hlinksldjump"/>
              </a:rPr>
              <a:t>1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27"/>
          <p:cNvSpPr/>
          <p:nvPr/>
        </p:nvSpPr>
        <p:spPr>
          <a:xfrm>
            <a:off x="152280" y="490680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9" action="ppaction://hlinksldjump"/>
              </a:rPr>
              <a:t>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28"/>
          <p:cNvSpPr/>
          <p:nvPr/>
        </p:nvSpPr>
        <p:spPr>
          <a:xfrm>
            <a:off x="152280" y="549432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0" action="ppaction://hlinksldjump"/>
              </a:rPr>
              <a:t>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9">
            <a:hlinkClick r:id="rId21" action="ppaction://hlinksldjump"/>
          </p:cNvPr>
          <p:cNvSpPr/>
          <p:nvPr/>
        </p:nvSpPr>
        <p:spPr>
          <a:xfrm>
            <a:off x="152280" y="6081840"/>
            <a:ext cx="1371600" cy="47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2" action="ppaction://hlinksldjump"/>
              </a:rPr>
              <a:t>1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Topic 9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hang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AutoShape 6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44280 w 1218960"/>
              <a:gd name="textAreaRight" fmla="*/ 1174680 w 12189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6984" y="1400"/>
                </a:lnTo>
                <a:lnTo>
                  <a:pt x="1400" y="14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6984" y="20200"/>
                </a:lnTo>
                <a:lnTo>
                  <a:pt x="36984" y="14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84" y="202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Topic 10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ich event was occurring at Christmas of 1777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Topic 10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Battle at Valley Forg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AutoShape 6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44280 w 1218960"/>
              <a:gd name="textAreaRight" fmla="*/ 1174680 w 12189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6984" y="1400"/>
                </a:lnTo>
                <a:lnTo>
                  <a:pt x="1400" y="14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6984" y="20200"/>
                </a:lnTo>
                <a:lnTo>
                  <a:pt x="36984" y="14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84" y="202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Million Dollar Question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Grade Level Topic 11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y is Molly Pitcher an important person to history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,000,000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he brought water to the soldiers during battle and joined in the battl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,000,000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44280 w 1218960"/>
              <a:gd name="textAreaRight" fmla="*/ 1174680 w 12189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6984" y="1400"/>
                </a:lnTo>
                <a:lnTo>
                  <a:pt x="1400" y="14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6984" y="20200"/>
                </a:lnTo>
                <a:lnTo>
                  <a:pt x="36984" y="14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84" y="202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anks for Playing!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2971800" y="3733920"/>
            <a:ext cx="3048120" cy="1904760"/>
          </a:xfrm>
          <a:prstGeom prst="rect">
            <a:avLst/>
          </a:prstGeom>
          <a:solidFill>
            <a:srgbClr val="ffffff"/>
          </a:solidFill>
          <a:ln w="1522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6" descr="5thGrader"/>
          <p:cNvPicPr/>
          <p:nvPr/>
        </p:nvPicPr>
        <p:blipFill>
          <a:blip r:embed="rId1"/>
          <a:stretch/>
        </p:blipFill>
        <p:spPr>
          <a:xfrm>
            <a:off x="3581280" y="3886200"/>
            <a:ext cx="1905120" cy="147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Topic 1 Question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y was it surprising for George Washington to see Molly Pitcher firing a cannon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Topic 1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omen didn’t typically fight in the battles at that tim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AutoShape 7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44280 w 1218960"/>
              <a:gd name="textAreaRight" fmla="*/ 1174680 w 12189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6984" y="1400"/>
                </a:lnTo>
                <a:lnTo>
                  <a:pt x="1400" y="14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6984" y="20200"/>
                </a:lnTo>
                <a:lnTo>
                  <a:pt x="36984" y="14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84" y="202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Topic 2 Question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generalization can be made about women during the Revolutionary War based off this story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Topic 2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omen followed their husbands to battle and helped in the war by bringing water to the men while they fought.  Some even fought in battle like Molly Pitcher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AutoShape 6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44280 w 1218960"/>
              <a:gd name="textAreaRight" fmla="*/ 1174680 w 12189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6984" y="1400"/>
                </a:lnTo>
                <a:lnTo>
                  <a:pt x="1400" y="14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6984" y="20200"/>
                </a:lnTo>
                <a:lnTo>
                  <a:pt x="36984" y="14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84" y="202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Topic 3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ccording the story, what did George Washington do to recognize Molly Pitcher’s acts of bravery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Topic 3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e gave her the ranking of sergeant in the Continental Army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44280 w 1218960"/>
              <a:gd name="textAreaRight" fmla="*/ 1174680 w 12189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6984" y="1400"/>
                </a:lnTo>
                <a:lnTo>
                  <a:pt x="1400" y="14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6984" y="20200"/>
                </a:lnTo>
                <a:lnTo>
                  <a:pt x="36984" y="14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84" y="202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Topic 4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y did Molly Pitcher go back and forth to the stream to get water for the soldiers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0T20:28:24Z</dcterms:created>
  <dc:creator>Gary Bodenschatz</dc:creator>
  <dc:description/>
  <dc:language>en-US</dc:language>
  <cp:lastModifiedBy>ltrolio</cp:lastModifiedBy>
  <dcterms:modified xsi:type="dcterms:W3CDTF">2012-02-29T23:03:14Z</dcterms:modified>
  <cp:revision>23</cp:revision>
  <dc:subject/>
  <dc:title>Are You Smarter  Than a 5th Grader?</dc:title>
</cp:coreProperties>
</file>